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6593-CDF6-43DD-BC97-894E4C05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999-A3DB-4DD7-B13F-4031D67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7E2B-EBE3-440A-95E3-3C87AEAD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4D5-9AD7-4879-BFF1-2D335747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55F-8305-42C6-A0FB-0F561596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7BA-57D0-4EC1-8515-7FEF983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AE9-3373-4C5A-B5FE-A91DD096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6FB-0353-4713-9389-5E8301F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049-7EEC-45BC-B7CD-5B50D078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737-3072-497B-A520-34329ADB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69B7-426A-4306-A405-96C8577F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C28-6974-4A30-B261-2FA2B9E0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73F-B1FE-4B94-BC10-1CAFC8142B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68360" y="260280"/>
            <a:ext cx="403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ello 4M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2879640" cy="316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211640" y="1268280"/>
            <a:ext cx="4176720" cy="1440000"/>
          </a:xfrm>
          <a:prstGeom prst="wedgeRoundRectCallout">
            <a:avLst>
              <a:gd name="adj1" fmla="val -77745"/>
              <a:gd name="adj2" fmla="val 7502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egin with a quick game to get acquainted with each o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32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name i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4149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I have never…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4365720"/>
            <a:ext cx="7848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arm is the water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uch water is in the cup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365720"/>
            <a:ext cx="7848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paperclip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an I get the stones separate to the water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de is the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metals are magnetic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5ml of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I separate the soil and wa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200ml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will the elastic band stret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47640" y="2133720"/>
            <a:ext cx="612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cie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797360"/>
            <a:ext cx="3456000" cy="136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think of when you hear this wor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4365720"/>
            <a:ext cx="7848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will the car trave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robot "/>
          <p:cNvPicPr/>
          <p:nvPr/>
        </p:nvPicPr>
        <p:blipFill>
          <a:blip r:embed="rId1"/>
          <a:stretch/>
        </p:blipFill>
        <p:spPr>
          <a:xfrm>
            <a:off x="684360" y="1844640"/>
            <a:ext cx="4084560" cy="4724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284720" y="333360"/>
            <a:ext cx="45864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Time to to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your sco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robot "/>
          <p:cNvPicPr/>
          <p:nvPr/>
        </p:nvPicPr>
        <p:blipFill>
          <a:blip r:embed="rId1"/>
          <a:stretch/>
        </p:blipFill>
        <p:spPr>
          <a:xfrm>
            <a:off x="179280" y="1916280"/>
            <a:ext cx="4084920" cy="47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84720" y="333360"/>
            <a:ext cx="4586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Superchallen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492280"/>
            <a:ext cx="410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how me.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robot "/>
          <p:cNvPicPr/>
          <p:nvPr/>
        </p:nvPicPr>
        <p:blipFill>
          <a:blip r:embed="rId1"/>
          <a:stretch/>
        </p:blipFill>
        <p:spPr>
          <a:xfrm>
            <a:off x="179280" y="1916280"/>
            <a:ext cx="408492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132000" y="1052640"/>
            <a:ext cx="4824720" cy="1439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scientists in training.. What have you learned tod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375" t="8618" r="5688" b="9287"/>
          <a:stretch/>
        </p:blipFill>
        <p:spPr>
          <a:xfrm>
            <a:off x="2771640" y="1916280"/>
            <a:ext cx="3600720" cy="23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58920" y="1700280"/>
            <a:ext cx="691344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 does a good Scientist ne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03640" y="4292640"/>
            <a:ext cx="2950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eed to do?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robot "/>
          <p:cNvPicPr/>
          <p:nvPr/>
        </p:nvPicPr>
        <p:blipFill>
          <a:blip r:embed="rId1"/>
          <a:stretch/>
        </p:blipFill>
        <p:spPr>
          <a:xfrm>
            <a:off x="324000" y="2781360"/>
            <a:ext cx="3525840" cy="4076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771640" y="1268280"/>
            <a:ext cx="4032360" cy="2016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my name is 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am here to help with your training and your……Xperiments. Tee He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let’s begin….lesson number o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robot "/>
          <p:cNvPicPr/>
          <p:nvPr/>
        </p:nvPicPr>
        <p:blipFill>
          <a:blip r:embed="rId1"/>
          <a:stretch/>
        </p:blipFill>
        <p:spPr>
          <a:xfrm>
            <a:off x="0" y="3716280"/>
            <a:ext cx="2717640" cy="3141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116000" y="333360"/>
            <a:ext cx="6781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Using Scientific Equip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637000"/>
            <a:ext cx="3313080" cy="129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 Earthlings- what science equipment can you nam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4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robot "/>
          <p:cNvPicPr/>
          <p:nvPr/>
        </p:nvPicPr>
        <p:blipFill>
          <a:blip r:embed="rId1"/>
          <a:stretch/>
        </p:blipFill>
        <p:spPr>
          <a:xfrm>
            <a:off x="0" y="3716280"/>
            <a:ext cx="2717640" cy="3141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00000" y="765000"/>
            <a:ext cx="7559640" cy="208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hat's in the box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59280" y="476280"/>
            <a:ext cx="306036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400536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science equi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5157720"/>
            <a:ext cx="3024000" cy="792360"/>
          </a:xfrm>
          <a:prstGeom prst="wedgeRoundRectCallout">
            <a:avLst>
              <a:gd name="adj1" fmla="val -90578"/>
              <a:gd name="adj2" fmla="val -113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for a ga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robot "/>
          <p:cNvPicPr/>
          <p:nvPr/>
        </p:nvPicPr>
        <p:blipFill>
          <a:blip r:embed="rId1"/>
          <a:stretch/>
        </p:blipFill>
        <p:spPr>
          <a:xfrm>
            <a:off x="250920" y="1484280"/>
            <a:ext cx="4647960" cy="5373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0000" y="549360"/>
            <a:ext cx="5040000" cy="2303280"/>
          </a:xfrm>
          <a:prstGeom prst="wedgeRoundRectCallout">
            <a:avLst>
              <a:gd name="adj1" fmla="val -60486"/>
              <a:gd name="adj2" fmla="val 605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…are you ready to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SCIENCE SUPERCHALLE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00720" y="333360"/>
            <a:ext cx="34858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Rul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robot "/>
          <p:cNvPicPr/>
          <p:nvPr/>
        </p:nvPicPr>
        <p:blipFill>
          <a:blip r:embed="rId1"/>
          <a:stretch/>
        </p:blipFill>
        <p:spPr>
          <a:xfrm>
            <a:off x="0" y="2492280"/>
            <a:ext cx="3524400" cy="407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1471680"/>
            <a:ext cx="439236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llenge will be show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team must work together to solve the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have done it- record your answer on the whiteboard and sound your symb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ints for using the correct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oints for naming the equi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int for the correct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692280"/>
            <a:ext cx="2881080" cy="1441440"/>
          </a:xfrm>
          <a:prstGeom prst="wedgeRoundRectCallout">
            <a:avLst>
              <a:gd name="adj1" fmla="val -30000"/>
              <a:gd name="adj2" fmla="val 975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 humanoid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robot "/>
          <p:cNvPicPr/>
          <p:nvPr/>
        </p:nvPicPr>
        <p:blipFill>
          <a:blip r:embed="rId1"/>
          <a:stretch/>
        </p:blipFill>
        <p:spPr>
          <a:xfrm>
            <a:off x="3059280" y="836640"/>
            <a:ext cx="2527200" cy="292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2340000" y="549360"/>
            <a:ext cx="410508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e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4365720"/>
            <a:ext cx="784872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long is the piece of string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19:33:44Z</dcterms:created>
  <dc:creator>Keeley</dc:creator>
  <dc:description/>
  <dc:language>en-US</dc:language>
  <cp:lastModifiedBy>k.bailey</cp:lastModifiedBy>
  <dcterms:modified xsi:type="dcterms:W3CDTF">2009-10-12T12:48:21Z</dcterms:modified>
  <cp:revision>3</cp:revision>
  <dc:subject/>
  <dc:title>Slide 1</dc:title>
</cp:coreProperties>
</file>